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A6B7-54FC-4298-9F4D-B1FB48FFB8EE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Manufacturing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96200" y="104760"/>
            <a:ext cx="7547760" cy="6033960"/>
            <a:chOff x="1096200" y="104760"/>
            <a:chExt cx="7547760" cy="6033960"/>
          </a:xfrm>
        </p:grpSpPr>
        <p:sp>
          <p:nvSpPr>
            <p:cNvPr id="91" name=""/>
            <p:cNvSpPr/>
            <p:nvPr/>
          </p:nvSpPr>
          <p:spPr>
            <a:xfrm flipH="1">
              <a:off x="2964960" y="2581200"/>
              <a:ext cx="1760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964960" y="2548080"/>
              <a:ext cx="1760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57760" y="971640"/>
              <a:ext cx="2700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0"/>
                  </a:moveTo>
                  <a:lnTo>
                    <a:pt x="32" y="5"/>
                  </a:lnTo>
                  <a:lnTo>
                    <a:pt x="15" y="16"/>
                  </a:lnTo>
                  <a:lnTo>
                    <a:pt x="4" y="33"/>
                  </a:lnTo>
                  <a:lnTo>
                    <a:pt x="0" y="5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388476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7000" y="971640"/>
              <a:ext cx="2664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52"/>
                  </a:moveTo>
                  <a:lnTo>
                    <a:pt x="47" y="33"/>
                  </a:lnTo>
                  <a:lnTo>
                    <a:pt x="36" y="16"/>
                  </a:lnTo>
                  <a:lnTo>
                    <a:pt x="20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362124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7000" y="2311560"/>
              <a:ext cx="26640" cy="2664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0" y="52"/>
                  </a:moveTo>
                  <a:lnTo>
                    <a:pt x="20" y="48"/>
                  </a:lnTo>
                  <a:lnTo>
                    <a:pt x="36" y="36"/>
                  </a:lnTo>
                  <a:lnTo>
                    <a:pt x="47" y="19"/>
                  </a:lnTo>
                  <a:lnTo>
                    <a:pt x="5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33640" y="998640"/>
              <a:ext cx="180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3621240" y="2338200"/>
              <a:ext cx="185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57760" y="998640"/>
              <a:ext cx="144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7052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2124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21240" y="2338200"/>
              <a:ext cx="1440" cy="32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3621240" y="939960"/>
              <a:ext cx="4492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857400" y="99864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857400" y="231156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892320" y="200340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892320" y="203832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94040" y="3943440"/>
              <a:ext cx="525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63920" y="298908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97360" y="2955960"/>
              <a:ext cx="3312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0" y="0"/>
                  </a:moveTo>
                  <a:lnTo>
                    <a:pt x="5" y="23"/>
                  </a:lnTo>
                  <a:lnTo>
                    <a:pt x="18" y="44"/>
                  </a:lnTo>
                  <a:lnTo>
                    <a:pt x="37" y="57"/>
                  </a:lnTo>
                  <a:lnTo>
                    <a:pt x="62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30480" y="298908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65680" y="2587680"/>
              <a:ext cx="3168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3897360" y="2620440"/>
              <a:ext cx="1440" cy="335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846240" y="258768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46600" y="2581200"/>
              <a:ext cx="1440" cy="2427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794040" y="2581200"/>
              <a:ext cx="1800" cy="13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46600" y="474984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46600" y="470700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97360" y="4794120"/>
              <a:ext cx="3312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0"/>
                  </a:moveTo>
                  <a:lnTo>
                    <a:pt x="37" y="5"/>
                  </a:lnTo>
                  <a:lnTo>
                    <a:pt x="18" y="18"/>
                  </a:lnTo>
                  <a:lnTo>
                    <a:pt x="5" y="39"/>
                  </a:lnTo>
                  <a:lnTo>
                    <a:pt x="0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97360" y="4630680"/>
              <a:ext cx="33120" cy="316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5" y="23"/>
                  </a:lnTo>
                  <a:lnTo>
                    <a:pt x="18" y="43"/>
                  </a:lnTo>
                  <a:lnTo>
                    <a:pt x="37" y="56"/>
                  </a:lnTo>
                  <a:lnTo>
                    <a:pt x="62" y="61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65680" y="516096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61"/>
                  </a:moveTo>
                  <a:lnTo>
                    <a:pt x="23" y="57"/>
                  </a:lnTo>
                  <a:lnTo>
                    <a:pt x="44" y="43"/>
                  </a:lnTo>
                  <a:lnTo>
                    <a:pt x="57" y="23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897360" y="4827600"/>
              <a:ext cx="1440" cy="3333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46600" y="519444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65680" y="426240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46600" y="426240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63920" y="4762440"/>
              <a:ext cx="32040" cy="3168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0" y="61"/>
                  </a:moveTo>
                  <a:lnTo>
                    <a:pt x="24" y="56"/>
                  </a:lnTo>
                  <a:lnTo>
                    <a:pt x="43" y="43"/>
                  </a:lnTo>
                  <a:lnTo>
                    <a:pt x="57" y="23"/>
                  </a:lnTo>
                  <a:lnTo>
                    <a:pt x="6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30480" y="479412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395960" y="4749480"/>
              <a:ext cx="1440" cy="12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63920" y="466236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30480" y="466236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395960" y="4695480"/>
              <a:ext cx="1440" cy="11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846600" y="474948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846600" y="426204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97360" y="4295880"/>
              <a:ext cx="1440" cy="334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7352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65320" y="939960"/>
              <a:ext cx="180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4395960" y="3022560"/>
              <a:ext cx="1440" cy="1727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2608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1824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97360" y="2955960"/>
              <a:ext cx="1440" cy="16747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19600" y="5635440"/>
              <a:ext cx="66600" cy="481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710160" y="5635080"/>
              <a:ext cx="109440" cy="266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886200" y="5902200"/>
              <a:ext cx="115920" cy="2145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428560" y="5902200"/>
              <a:ext cx="1281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001760" y="5902200"/>
              <a:ext cx="1065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818240" y="2581200"/>
              <a:ext cx="26193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873520" y="939960"/>
              <a:ext cx="4564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70440" y="939960"/>
              <a:ext cx="1440" cy="1641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870080" y="2541600"/>
              <a:ext cx="25671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870080" y="981000"/>
              <a:ext cx="25671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89880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851280" y="4650840"/>
              <a:ext cx="54000" cy="55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94812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846600" y="46098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99744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846600" y="456084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404640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846600" y="45115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09428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3846600" y="44622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14324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46600" y="4414680"/>
              <a:ext cx="50760" cy="51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19256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3846600" y="436536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24188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3846600" y="43164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290840" y="4662360"/>
              <a:ext cx="4320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846600" y="427500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340160" y="4667400"/>
              <a:ext cx="39600" cy="39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846600" y="4262400"/>
              <a:ext cx="792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4387680" y="4699080"/>
              <a:ext cx="828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29912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851280" y="5146200"/>
              <a:ext cx="46080" cy="47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24980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434808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846600" y="509724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420228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846600" y="504792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15296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846600" y="500040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10364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846600" y="495108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05432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846600" y="49021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00536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846600" y="48528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95604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846600" y="4749480"/>
              <a:ext cx="104760" cy="106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3846600" y="4749480"/>
              <a:ext cx="57240" cy="57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846600" y="4749840"/>
              <a:ext cx="7920" cy="9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7170840" y="1590480"/>
              <a:ext cx="482400" cy="68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7170480" y="1658880"/>
              <a:ext cx="266760" cy="109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7437240" y="1476360"/>
              <a:ext cx="215640" cy="114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37600" y="1768320"/>
              <a:ext cx="1440" cy="906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37600" y="825480"/>
              <a:ext cx="1440" cy="6508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4114800" y="2463840"/>
              <a:ext cx="23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30848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3857400" y="16380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3857400" y="16869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3857400" y="15886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3857400" y="173628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3857400" y="15393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3857400" y="178416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3857400" y="14904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3857400" y="18331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3857400" y="14410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3857400" y="18824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3857400" y="139392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3857400" y="19317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3857400" y="13442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3857400" y="19792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3857400" y="12949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3857400" y="20286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3857400" y="12459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3857400" y="20775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3857400" y="11966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3857400" y="21268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3857400" y="1147680"/>
              <a:ext cx="34920" cy="36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3857400" y="217656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3857400" y="109980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3857400" y="22251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3857400" y="10504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3857400" y="22730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3857400" y="100152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38560" y="2066760"/>
              <a:ext cx="41400" cy="414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78" y="0"/>
                  </a:moveTo>
                  <a:lnTo>
                    <a:pt x="47" y="4"/>
                  </a:lnTo>
                  <a:lnTo>
                    <a:pt x="23" y="21"/>
                  </a:lnTo>
                  <a:lnTo>
                    <a:pt x="6" y="47"/>
                  </a:lnTo>
                  <a:lnTo>
                    <a:pt x="0" y="77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179600" y="2066760"/>
              <a:ext cx="12852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138560" y="2108160"/>
              <a:ext cx="180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75200" y="2066760"/>
              <a:ext cx="39600" cy="41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77"/>
                  </a:moveTo>
                  <a:lnTo>
                    <a:pt x="71" y="47"/>
                  </a:lnTo>
                  <a:lnTo>
                    <a:pt x="54" y="21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114800" y="2108160"/>
              <a:ext cx="144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57760" y="2311560"/>
              <a:ext cx="17280" cy="2520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0" y="0"/>
                  </a:moveTo>
                  <a:lnTo>
                    <a:pt x="3" y="16"/>
                  </a:lnTo>
                  <a:lnTo>
                    <a:pt x="9" y="29"/>
                  </a:lnTo>
                  <a:lnTo>
                    <a:pt x="19" y="40"/>
                  </a:lnTo>
                  <a:lnTo>
                    <a:pt x="33" y="48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620880" y="2370240"/>
              <a:ext cx="253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75040" y="2336760"/>
              <a:ext cx="1800" cy="33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833640" y="16430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833640" y="15937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833640" y="16923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3833640" y="15447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833640" y="17395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3833640" y="14954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833640" y="17892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833640" y="14457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3833640" y="18378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833640" y="13986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833640" y="1887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3833640" y="13489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833640" y="19368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3833640" y="130032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3833640" y="19861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833640" y="12510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833640" y="20336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833640" y="1203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833640" y="20829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833640" y="11541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040280" y="941400"/>
              <a:ext cx="3024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621240" y="233820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3833640" y="21315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833640" y="11048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99096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366876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3833640" y="21812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833640" y="10551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94344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371808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3833640" y="22284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833640" y="10065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89412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76704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3833640" y="227808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3830760" y="939600"/>
              <a:ext cx="44280" cy="45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816360" y="2324160"/>
              <a:ext cx="442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379584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3863880" y="2358720"/>
              <a:ext cx="1116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74652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69720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64968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621240" y="939960"/>
              <a:ext cx="9360" cy="10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3892320" y="2463840"/>
              <a:ext cx="2221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92680" y="998640"/>
              <a:ext cx="1440" cy="1465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92760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3927600" y="2066760"/>
              <a:ext cx="14760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927600" y="2038320"/>
              <a:ext cx="3808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4114800" y="224784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3927240" y="2060280"/>
              <a:ext cx="612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4114800" y="2297160"/>
              <a:ext cx="23760" cy="22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4114800" y="2198160"/>
              <a:ext cx="2376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395280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4114800" y="234468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4114800" y="214956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400212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4114800" y="239400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4113360" y="2100240"/>
              <a:ext cx="2520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4051080" y="203832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4114440" y="2442960"/>
              <a:ext cx="2052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4100400" y="2038320"/>
              <a:ext cx="460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flipV="1">
              <a:off x="414936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>
              <a:off x="419868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424656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4295520" y="2037960"/>
              <a:ext cx="1260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46600" y="56052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46600" y="9111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46600" y="10335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46600" y="138600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46600" y="150804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46600" y="185904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46600" y="19810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46600" y="23335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46600" y="245412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46600" y="28065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46600" y="29289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46600" y="328140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46600" y="340200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46600" y="375444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46600" y="387684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46600" y="422748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46600" y="43498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46600" y="47023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46600" y="482436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46600" y="517536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46600" y="529740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46600" y="564984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46600" y="577044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33840" y="2049480"/>
              <a:ext cx="146160" cy="150840"/>
            </a:xfrm>
            <a:custGeom>
              <a:avLst/>
              <a:gdLst/>
              <a:ahLst/>
              <a:rect l="l" t="t" r="r" b="b"/>
              <a:pathLst>
                <a:path w="276" h="284">
                  <a:moveTo>
                    <a:pt x="0" y="0"/>
                  </a:moveTo>
                  <a:lnTo>
                    <a:pt x="276" y="139"/>
                  </a:lnTo>
                  <a:lnTo>
                    <a:pt x="99" y="105"/>
                  </a:lnTo>
                  <a:lnTo>
                    <a:pt x="122" y="2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33840" y="2049480"/>
              <a:ext cx="1182600" cy="1263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16440" y="3313080"/>
              <a:ext cx="1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34800" y="3165480"/>
              <a:ext cx="181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gusset pl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35600" y="853920"/>
              <a:ext cx="163440" cy="120960"/>
            </a:xfrm>
            <a:custGeom>
              <a:avLst/>
              <a:gdLst/>
              <a:ahLst/>
              <a:rect l="l" t="t" r="r" b="b"/>
              <a:pathLst>
                <a:path w="307" h="226">
                  <a:moveTo>
                    <a:pt x="0" y="226"/>
                  </a:moveTo>
                  <a:lnTo>
                    <a:pt x="211" y="0"/>
                  </a:lnTo>
                  <a:lnTo>
                    <a:pt x="131" y="160"/>
                  </a:lnTo>
                  <a:lnTo>
                    <a:pt x="307" y="189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035600" y="490320"/>
              <a:ext cx="955440" cy="484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991040" y="490680"/>
              <a:ext cx="1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48280" y="34272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1 x 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08440" y="4335480"/>
              <a:ext cx="157320" cy="135000"/>
            </a:xfrm>
            <a:custGeom>
              <a:avLst/>
              <a:gdLst/>
              <a:ahLst/>
              <a:rect l="l" t="t" r="r" b="b"/>
              <a:pathLst>
                <a:path w="298" h="255">
                  <a:moveTo>
                    <a:pt x="0" y="0"/>
                  </a:moveTo>
                  <a:lnTo>
                    <a:pt x="298" y="82"/>
                  </a:lnTo>
                  <a:lnTo>
                    <a:pt x="119" y="84"/>
                  </a:lnTo>
                  <a:lnTo>
                    <a:pt x="175" y="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08440" y="4335480"/>
              <a:ext cx="1116000" cy="792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24440" y="5127480"/>
              <a:ext cx="18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888520" y="4979880"/>
              <a:ext cx="110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7 x 19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18480" y="2330280"/>
              <a:ext cx="152280" cy="144720"/>
            </a:xfrm>
            <a:custGeom>
              <a:avLst/>
              <a:gdLst/>
              <a:ahLst/>
              <a:rect l="l" t="t" r="r" b="b"/>
              <a:pathLst>
                <a:path w="288" h="272">
                  <a:moveTo>
                    <a:pt x="0" y="0"/>
                  </a:moveTo>
                  <a:lnTo>
                    <a:pt x="288" y="114"/>
                  </a:lnTo>
                  <a:lnTo>
                    <a:pt x="109" y="97"/>
                  </a:lnTo>
                  <a:lnTo>
                    <a:pt x="146" y="2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918480" y="2330280"/>
              <a:ext cx="666720" cy="594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85200" y="29242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666200" y="277668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4 x 6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6532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6532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0">
                  <a:moveTo>
                    <a:pt x="0" y="0"/>
                  </a:moveTo>
                  <a:lnTo>
                    <a:pt x="0" y="130"/>
                  </a:lnTo>
                  <a:lnTo>
                    <a:pt x="131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296532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6532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1">
                  <a:moveTo>
                    <a:pt x="0" y="131"/>
                  </a:moveTo>
                  <a:lnTo>
                    <a:pt x="0" y="0"/>
                  </a:lnTo>
                  <a:lnTo>
                    <a:pt x="131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465624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5624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32" y="0"/>
                  </a:moveTo>
                  <a:lnTo>
                    <a:pt x="132" y="130"/>
                  </a:lnTo>
                  <a:lnTo>
                    <a:pt x="0" y="13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 flipV="1">
              <a:off x="465624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5624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1">
                  <a:moveTo>
                    <a:pt x="132" y="131"/>
                  </a:moveTo>
                  <a:lnTo>
                    <a:pt x="132" y="0"/>
                  </a:lnTo>
                  <a:lnTo>
                    <a:pt x="0" y="0"/>
                  </a:lnTo>
                  <a:lnTo>
                    <a:pt x="132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6844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flipV="1">
              <a:off x="229860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9860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36808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68440" y="1798560"/>
              <a:ext cx="180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756576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77096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69896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9932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0960" y="1798560"/>
              <a:ext cx="144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3436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90488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70120" y="104760"/>
              <a:ext cx="621000" cy="561960"/>
            </a:xfrm>
            <a:custGeom>
              <a:avLst/>
              <a:gdLst/>
              <a:ahLst/>
              <a:rect l="l" t="t" r="r" b="b"/>
              <a:pathLst>
                <a:path w="769" h="772">
                  <a:moveTo>
                    <a:pt x="385" y="0"/>
                  </a:moveTo>
                  <a:lnTo>
                    <a:pt x="314" y="7"/>
                  </a:lnTo>
                  <a:lnTo>
                    <a:pt x="246" y="27"/>
                  </a:lnTo>
                  <a:lnTo>
                    <a:pt x="182" y="58"/>
                  </a:lnTo>
                  <a:lnTo>
                    <a:pt x="125" y="101"/>
                  </a:lnTo>
                  <a:lnTo>
                    <a:pt x="77" y="152"/>
                  </a:lnTo>
                  <a:lnTo>
                    <a:pt x="40" y="213"/>
                  </a:lnTo>
                  <a:lnTo>
                    <a:pt x="14" y="279"/>
                  </a:lnTo>
                  <a:lnTo>
                    <a:pt x="1" y="348"/>
                  </a:lnTo>
                  <a:lnTo>
                    <a:pt x="0" y="420"/>
                  </a:lnTo>
                  <a:lnTo>
                    <a:pt x="13" y="490"/>
                  </a:lnTo>
                  <a:lnTo>
                    <a:pt x="37" y="556"/>
                  </a:lnTo>
                  <a:lnTo>
                    <a:pt x="75" y="616"/>
                  </a:lnTo>
                  <a:lnTo>
                    <a:pt x="122" y="670"/>
                  </a:lnTo>
                  <a:lnTo>
                    <a:pt x="178" y="712"/>
                  </a:lnTo>
                  <a:lnTo>
                    <a:pt x="241" y="745"/>
                  </a:lnTo>
                  <a:lnTo>
                    <a:pt x="309" y="765"/>
                  </a:lnTo>
                  <a:lnTo>
                    <a:pt x="379" y="772"/>
                  </a:lnTo>
                  <a:lnTo>
                    <a:pt x="450" y="766"/>
                  </a:lnTo>
                  <a:lnTo>
                    <a:pt x="519" y="748"/>
                  </a:lnTo>
                  <a:lnTo>
                    <a:pt x="583" y="718"/>
                  </a:lnTo>
                  <a:lnTo>
                    <a:pt x="640" y="676"/>
                  </a:lnTo>
                  <a:lnTo>
                    <a:pt x="688" y="624"/>
                  </a:lnTo>
                  <a:lnTo>
                    <a:pt x="727" y="565"/>
                  </a:lnTo>
                  <a:lnTo>
                    <a:pt x="754" y="499"/>
                  </a:lnTo>
                  <a:lnTo>
                    <a:pt x="768" y="429"/>
                  </a:lnTo>
                  <a:lnTo>
                    <a:pt x="769" y="359"/>
                  </a:lnTo>
                  <a:lnTo>
                    <a:pt x="759" y="289"/>
                  </a:lnTo>
                  <a:lnTo>
                    <a:pt x="734" y="221"/>
                  </a:lnTo>
                  <a:lnTo>
                    <a:pt x="698" y="161"/>
                  </a:lnTo>
                  <a:lnTo>
                    <a:pt x="651" y="108"/>
                  </a:lnTo>
                  <a:lnTo>
                    <a:pt x="595" y="63"/>
                  </a:lnTo>
                  <a:lnTo>
                    <a:pt x="533" y="30"/>
                  </a:lnTo>
                  <a:lnTo>
                    <a:pt x="465" y="9"/>
                  </a:lnTo>
                  <a:lnTo>
                    <a:pt x="395" y="0"/>
                  </a:lnTo>
                  <a:lnTo>
                    <a:pt x="385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717720" y="206280"/>
              <a:ext cx="355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Univers"/>
                </a:rPr>
                <a:t>A1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46240" y="5788080"/>
              <a:ext cx="1681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 u="sng">
                  <a:solidFill>
                    <a:srgbClr val="ffffff"/>
                  </a:solidFill>
                  <a:uFillTx/>
                  <a:latin typeface="Univers"/>
                </a:rPr>
                <a:t>Section P - P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67120" y="2614680"/>
              <a:ext cx="155520" cy="139680"/>
            </a:xfrm>
            <a:custGeom>
              <a:avLst/>
              <a:gdLst/>
              <a:ahLst/>
              <a:rect l="l" t="t" r="r" b="b"/>
              <a:pathLst>
                <a:path w="293" h="264">
                  <a:moveTo>
                    <a:pt x="293" y="0"/>
                  </a:moveTo>
                  <a:lnTo>
                    <a:pt x="132" y="264"/>
                  </a:lnTo>
                  <a:lnTo>
                    <a:pt x="180" y="90"/>
                  </a:lnTo>
                  <a:lnTo>
                    <a:pt x="0" y="9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262240" y="2614680"/>
              <a:ext cx="860400" cy="685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62240" y="33004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96200" y="3154320"/>
              <a:ext cx="140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stiffe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4818240" y="381744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73520" y="381780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965320" y="4206960"/>
            <a:ext cx="68400" cy="6804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49"/>
                </a:lnTo>
                <a:lnTo>
                  <a:pt x="38" y="90"/>
                </a:lnTo>
                <a:lnTo>
                  <a:pt x="79" y="118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65320" y="3817800"/>
            <a:ext cx="180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965320" y="4332240"/>
            <a:ext cx="6840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128" y="0"/>
                </a:moveTo>
                <a:lnTo>
                  <a:pt x="79" y="11"/>
                </a:lnTo>
                <a:lnTo>
                  <a:pt x="38" y="38"/>
                </a:lnTo>
                <a:lnTo>
                  <a:pt x="10" y="79"/>
                </a:lnTo>
                <a:lnTo>
                  <a:pt x="0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965320" y="4400640"/>
            <a:ext cx="180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57680" y="4206960"/>
            <a:ext cx="68400" cy="6804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0" y="129"/>
                </a:moveTo>
                <a:lnTo>
                  <a:pt x="49" y="118"/>
                </a:lnTo>
                <a:lnTo>
                  <a:pt x="90" y="90"/>
                </a:lnTo>
                <a:lnTo>
                  <a:pt x="118" y="49"/>
                </a:lnTo>
                <a:lnTo>
                  <a:pt x="129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33720" y="427500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726080" y="3817800"/>
            <a:ext cx="144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57680" y="4332240"/>
            <a:ext cx="68400" cy="6840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129" y="129"/>
                </a:moveTo>
                <a:lnTo>
                  <a:pt x="118" y="79"/>
                </a:lnTo>
                <a:lnTo>
                  <a:pt x="90" y="38"/>
                </a:lnTo>
                <a:lnTo>
                  <a:pt x="49" y="11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33720" y="433224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726080" y="4400640"/>
            <a:ext cx="144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4726080" y="3817800"/>
            <a:ext cx="92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2873160" y="3817800"/>
            <a:ext cx="9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873520" y="4788000"/>
            <a:ext cx="91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26080" y="4788000"/>
            <a:ext cx="92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21240" y="4400640"/>
            <a:ext cx="144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33640" y="4400640"/>
            <a:ext cx="180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57760" y="4332240"/>
            <a:ext cx="1440" cy="9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3857400" y="4788000"/>
            <a:ext cx="34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621240" y="4400640"/>
            <a:ext cx="2365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09960" y="5130720"/>
            <a:ext cx="33480" cy="239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3855960" y="5130720"/>
            <a:ext cx="54000" cy="131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3943440" y="5262480"/>
            <a:ext cx="58680" cy="1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3401640" y="5262480"/>
            <a:ext cx="45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4001760" y="5262480"/>
            <a:ext cx="32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18240" y="3992400"/>
            <a:ext cx="26193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18240" y="4613400"/>
            <a:ext cx="26193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3892320" y="4613400"/>
            <a:ext cx="833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70440" y="3992400"/>
            <a:ext cx="1440" cy="62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70440" y="42894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22288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34348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9592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832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68960" y="42894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9136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64380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76440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116840" y="42894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238880" y="4289400"/>
            <a:ext cx="1987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0440" y="4317840"/>
            <a:ext cx="2700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22288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4348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69592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1832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68960" y="431784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29136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4380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6440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116840" y="4317840"/>
            <a:ext cx="41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238880" y="4317840"/>
            <a:ext cx="19872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8178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37688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38656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7195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14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6702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9639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362124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0132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35719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406080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352440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41101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475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4159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4257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2084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2921040" y="4743360"/>
            <a:ext cx="4428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3376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42577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726080" y="3817800"/>
            <a:ext cx="44280" cy="46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2873520" y="46940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33274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307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4726080" y="381960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2873520" y="46450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32781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43545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4726080" y="38685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2873520" y="459576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3230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440388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4726080" y="39178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2873520" y="4546080"/>
            <a:ext cx="91800" cy="93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31813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44528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4726080" y="3967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2873520" y="449748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1320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45021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4726080" y="401616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2873520" y="444960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3083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45514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726080" y="40640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2873520" y="44006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035160" y="4274640"/>
            <a:ext cx="5580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4600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4726080" y="411336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873520" y="4275000"/>
            <a:ext cx="169560" cy="168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4648320" y="4162320"/>
            <a:ext cx="169920" cy="169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873520" y="4265280"/>
            <a:ext cx="12852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4689360" y="4211280"/>
            <a:ext cx="12888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873520" y="4242960"/>
            <a:ext cx="102960" cy="103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4714920" y="4258800"/>
            <a:ext cx="1033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873520" y="420372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4726080" y="430848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873520" y="41558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4726080" y="435744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873520" y="41068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4726080" y="44067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873520" y="405756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4726080" y="44560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873520" y="400860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4726080" y="45054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2873520" y="396072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4726080" y="455292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2873520" y="391140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4726080" y="46022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873520" y="38624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726080" y="4651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2873520" y="3817440"/>
            <a:ext cx="8712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4730760" y="4700160"/>
            <a:ext cx="8748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2873520" y="3817440"/>
            <a:ext cx="37800" cy="39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4780080" y="4749840"/>
            <a:ext cx="3816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3833640" y="4819680"/>
            <a:ext cx="24120" cy="25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833640" y="477000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3833640" y="48690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33640" y="47228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3833640" y="49179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33640" y="46735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833640" y="49672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833640" y="46245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3833640" y="50166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3833640" y="45752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833640" y="50637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3833640" y="45255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833640" y="51134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3833640" y="447624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3833640" y="5162040"/>
            <a:ext cx="24120" cy="24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3833640" y="44290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833640" y="52117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3833640" y="44002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854520" y="52588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3857400" y="45414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3857400" y="459072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3857400" y="44938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3857400" y="464004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3857400" y="444456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3857400" y="46890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3857400" y="43956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 flipV="1">
            <a:off x="3857400" y="4738320"/>
            <a:ext cx="34920" cy="33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3857400" y="43462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3857760" y="478800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 flipV="1">
            <a:off x="3892680" y="4331880"/>
            <a:ext cx="1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 flipV="1">
            <a:off x="4817880" y="42764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 flipV="1">
            <a:off x="4817880" y="432576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4817880" y="42274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 flipV="1">
            <a:off x="4817880" y="43750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 flipV="1">
            <a:off x="4817880" y="417960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 flipV="1">
            <a:off x="4817880" y="44240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4817880" y="413064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4817880" y="447336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 flipV="1">
            <a:off x="4817880" y="408132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 flipV="1">
            <a:off x="4817880" y="452088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 flipV="1">
            <a:off x="4817880" y="403200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 flipV="1">
            <a:off x="4817880" y="4570200"/>
            <a:ext cx="42840" cy="42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4827240" y="3992400"/>
            <a:ext cx="42840" cy="43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6138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60912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6188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60418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62373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9929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6286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59436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63342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5894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638316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8453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64324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57974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64818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7484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65311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56991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6580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6498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6627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60088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66769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5551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67262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504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6775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54547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68245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54054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6873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356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692316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530712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6970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5257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70200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52102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06896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5160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118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51116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165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5062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72151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01480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72644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4965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73137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49165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7362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4870440" y="4289040"/>
            <a:ext cx="2556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7412040" y="4290480"/>
            <a:ext cx="2556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2734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2584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74788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09888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209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5733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69576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04640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1688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52124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64184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99428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1166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4687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5897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421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420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41520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53724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8968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0120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272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48512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8375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95816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8210160" y="4303800"/>
            <a:ext cx="33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070520" y="4788000"/>
            <a:ext cx="1440" cy="474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892680" y="4719600"/>
            <a:ext cx="6804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50"/>
                </a:lnTo>
                <a:lnTo>
                  <a:pt x="38" y="92"/>
                </a:lnTo>
                <a:lnTo>
                  <a:pt x="80" y="120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3960360" y="4788000"/>
            <a:ext cx="109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92680" y="4332240"/>
            <a:ext cx="1440" cy="455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36844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229860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9860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236808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368440" y="4532040"/>
            <a:ext cx="180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56576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77096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69896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769932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7770960" y="4532040"/>
            <a:ext cx="144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2965320" y="4613400"/>
            <a:ext cx="655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2964960" y="3992400"/>
            <a:ext cx="176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103640" y="436716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8932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275000" y="4575240"/>
            <a:ext cx="33480" cy="38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927600" y="4367160"/>
            <a:ext cx="68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62240" y="436716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27600" y="4367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927600" y="4502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3927600" y="4559400"/>
            <a:ext cx="144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46600" y="347652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846600" y="3827520"/>
            <a:ext cx="144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846600" y="394956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46600" y="4302000"/>
            <a:ext cx="1440" cy="39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846600" y="442440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846600" y="4775040"/>
            <a:ext cx="1440" cy="414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46600" y="489744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46600" y="524988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846600" y="5370480"/>
            <a:ext cx="1440" cy="27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46600" y="572292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46600" y="5845320"/>
            <a:ext cx="1440" cy="2347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26160" y="5470560"/>
            <a:ext cx="8388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 flipV="1">
            <a:off x="4900680" y="5484960"/>
            <a:ext cx="936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4826160" y="5470560"/>
            <a:ext cx="17280" cy="619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 flipV="1">
            <a:off x="3927600" y="4591080"/>
            <a:ext cx="836640" cy="10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4308120" y="4613400"/>
            <a:ext cx="669960" cy="807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932280" y="436716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1940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106880" y="457524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92560" y="467820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278240" y="478296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65720" y="48862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452840" y="49910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538520" y="509436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626000" y="51991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711680" y="53020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97360" y="5407200"/>
            <a:ext cx="446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 flipV="1">
            <a:off x="4857480" y="5478120"/>
            <a:ext cx="20520" cy="25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927600" y="43876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013280" y="4491000"/>
            <a:ext cx="4428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00400" y="45957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186080" y="4700520"/>
            <a:ext cx="446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273560" y="480384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61040" y="4906800"/>
            <a:ext cx="42840" cy="54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446720" y="50115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532400" y="511668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19520" y="52196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705200" y="532440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792680" y="54277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flipV="1">
            <a:off x="4843080" y="5489640"/>
            <a:ext cx="20520" cy="25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 flipV="1">
            <a:off x="4797000" y="542124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 flipV="1">
            <a:off x="4719240" y="532764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4495320" y="50562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4416120" y="4962600"/>
            <a:ext cx="270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 flipV="1">
            <a:off x="4192200" y="46926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4114440" y="459900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 flipV="1">
            <a:off x="3889440" y="4327560"/>
            <a:ext cx="17280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3811680" y="4233960"/>
            <a:ext cx="252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flipV="1">
            <a:off x="3587760" y="3965400"/>
            <a:ext cx="171360" cy="2066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4900680" y="5354640"/>
            <a:ext cx="156960" cy="1303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4694400" y="5532480"/>
            <a:ext cx="149040" cy="1252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967200" y="4529160"/>
            <a:ext cx="31680" cy="31680"/>
          </a:xfrm>
          <a:custGeom>
            <a:avLst/>
            <a:gdLst/>
            <a:ahLst/>
            <a:rect l="l" t="t" r="r" b="b"/>
            <a:pathLst>
              <a:path w="60" h="60">
                <a:moveTo>
                  <a:pt x="29" y="60"/>
                </a:moveTo>
                <a:lnTo>
                  <a:pt x="60" y="38"/>
                </a:lnTo>
                <a:lnTo>
                  <a:pt x="45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021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395244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983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156200" y="4529160"/>
            <a:ext cx="33120" cy="31680"/>
          </a:xfrm>
          <a:custGeom>
            <a:avLst/>
            <a:gdLst/>
            <a:ahLst/>
            <a:rect l="l" t="t" r="r" b="b"/>
            <a:pathLst>
              <a:path w="61" h="60">
                <a:moveTo>
                  <a:pt x="29" y="60"/>
                </a:moveTo>
                <a:lnTo>
                  <a:pt x="61" y="38"/>
                </a:lnTo>
                <a:lnTo>
                  <a:pt x="46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10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414288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172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075200" y="4430880"/>
            <a:ext cx="31680" cy="31680"/>
          </a:xfrm>
          <a:custGeom>
            <a:avLst/>
            <a:gdLst/>
            <a:ahLst/>
            <a:rect l="l" t="t" r="r" b="b"/>
            <a:pathLst>
              <a:path w="59" h="60">
                <a:moveTo>
                  <a:pt x="28" y="60"/>
                </a:moveTo>
                <a:lnTo>
                  <a:pt x="59" y="36"/>
                </a:lnTo>
                <a:lnTo>
                  <a:pt x="44" y="0"/>
                </a:lnTo>
                <a:lnTo>
                  <a:pt x="6" y="4"/>
                </a:lnTo>
                <a:lnTo>
                  <a:pt x="0" y="43"/>
                </a:lnTo>
                <a:lnTo>
                  <a:pt x="28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127400" y="446400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4060440" y="4444920"/>
            <a:ext cx="65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089240" y="4416480"/>
            <a:ext cx="180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109600" y="438948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962480" y="444960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708440" y="5119560"/>
            <a:ext cx="163440" cy="112680"/>
          </a:xfrm>
          <a:custGeom>
            <a:avLst/>
            <a:gdLst/>
            <a:ahLst/>
            <a:rect l="l" t="t" r="r" b="b"/>
            <a:pathLst>
              <a:path w="309" h="213">
                <a:moveTo>
                  <a:pt x="0" y="213"/>
                </a:moveTo>
                <a:lnTo>
                  <a:pt x="225" y="0"/>
                </a:lnTo>
                <a:lnTo>
                  <a:pt x="133" y="155"/>
                </a:lnTo>
                <a:lnTo>
                  <a:pt x="309" y="194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4708440" y="5006880"/>
            <a:ext cx="519120" cy="225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227560" y="500688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200200" y="4861080"/>
            <a:ext cx="178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Univers"/>
              </a:rPr>
              <a:t>Horizontal br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648400" y="5748480"/>
            <a:ext cx="1785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ffffff"/>
                </a:solidFill>
                <a:uFillTx/>
                <a:latin typeface="Univers"/>
              </a:rPr>
              <a:t>Section Q - Q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7304040" y="4203360"/>
            <a:ext cx="241200" cy="33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7303680" y="4237200"/>
            <a:ext cx="13356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 flipV="1">
            <a:off x="7437240" y="4146120"/>
            <a:ext cx="107640" cy="57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437600" y="4292640"/>
            <a:ext cx="1440" cy="453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437600" y="3825720"/>
            <a:ext cx="1440" cy="32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5" name="00007352" descr=""/>
          <p:cNvPicPr/>
          <p:nvPr/>
        </p:nvPicPr>
        <p:blipFill>
          <a:blip r:embed="rId1"/>
          <a:stretch/>
        </p:blipFill>
        <p:spPr>
          <a:xfrm>
            <a:off x="1060560" y="817560"/>
            <a:ext cx="7022880" cy="5222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7" name="00007353" descr=""/>
          <p:cNvPicPr/>
          <p:nvPr/>
        </p:nvPicPr>
        <p:blipFill>
          <a:blip r:embed="rId1"/>
          <a:stretch/>
        </p:blipFill>
        <p:spPr>
          <a:xfrm>
            <a:off x="1060560" y="907920"/>
            <a:ext cx="7022880" cy="504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9" name="00007356" descr=""/>
          <p:cNvPicPr/>
          <p:nvPr/>
        </p:nvPicPr>
        <p:blipFill>
          <a:blip r:embed="rId1"/>
          <a:stretch/>
        </p:blipFill>
        <p:spPr>
          <a:xfrm>
            <a:off x="1870200" y="638280"/>
            <a:ext cx="5402160" cy="55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21" name="DesignDataDetai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etail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8:55:05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47Z</dcterms:modified>
  <cp:revision>2</cp:revision>
  <dc:subject/>
  <dc:title>CIS/2 Implementation Workshop III,  3-7 April 2000, Ascot</dc:title>
</cp:coreProperties>
</file>